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6EE-38E1-4591-BB65-180495F7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F10-FB4D-44D6-A95A-D6A0E1F5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153-1AEC-4722-B624-C4CE4658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CBF5-0E92-450C-A51E-861504DB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7DD-87FB-44C3-A205-EA2F2E88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806-935A-4965-AA25-AC39F239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B87-6DF7-4C22-93C5-D98AEE65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BB0-63F6-49E7-B45D-59F7ADD8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00E0-1645-4A7D-8B2A-0C047543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434-C805-40FD-9614-DA973B0A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3BD-9297-4DD3-BE64-8C306E04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814-716C-4A5D-8B00-F9394B66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3EA63A-3E5F-49E7-8CF8-E44A1C6C0F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Ing. Rogelio Sevilla Fernánd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sevilla@col.gob.mx  sevilla100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Característica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ake-On-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tencia WiFi hasta 251 m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islamiento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do Adhoc / Cliente /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stema W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ltro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guridad WEP, WPA, WPA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Versiones DD-W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stables y 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ni ( Equipos con menos de 2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tandard (Equipos con 4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IP (Equipos con 4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PN (Equipos con 4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Equipos Linksys Sopor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RT54G: v1.0-v4.0. 16 MB RAM / 4 FLA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RT54G: v5.0-v6.0. 8 MB RAM / 2 FLAS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RT54GL: vx.x. 16 MB RAM / 4 MB FLA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RT54GS: v1.0-v4.0 32 MB RAM / 8 MB FLA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AP54G 8 MB RAM / 2 FL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Puntos Calientes (HotSp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Zona de Cobertura WiFi en lugar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n experimentado un gran auge en el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ermite facilitar al máximo la conexión inalámbrica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rtales Cau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Éxito de un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 debe de ser un estorbo o molestia para el establ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exión de banda an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ibre o Prep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Software para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putnik  (Version VP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illispot  (Version Estánd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fidog * (Version VP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Cat (Obsol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Portal Cautivo … WiFi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olución de portal cautivo para sistemas integrados destinados a ambientes inalámbricos gratu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reación de cuentas de acceso con un ID y e-mail ún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utentificación central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nitoreo de los nodos mediante un senso de la actividad de la red. Así el servidor siempre conoce que nodos están a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tenidos específicos para cada N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stadísticas: usuarios registrados, uso del ancho de banda por usuario, usuarios repetitiv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Portal Cautivo … WiFi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233172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sarrollado en código C para facilitar su integración en sistemas embebidos, principalmente desarrollado para WRT54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rvidor de Autentificación desarrollado en PHP y Postgre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a administración-autentificación es realizada en el servidor de autentificación. El Gateway solo juega con reglas de cortafue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Caso de éxito. Red Inalámbrica gratuita Gobierno del Estado de Co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4360" y="1733400"/>
            <a:ext cx="7704000" cy="3772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D E M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GNU/Linux en Menos de 100 U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stemas Integ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yectos 3rd Party Firmw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quipos basados en chip Broad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Sistemas Inte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stema informático de uso específico construido dentro de un dispositivo may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mponentes integrados en una tarjeta madre prin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ecio y Cons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cesadores y Memoria peque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Ventajas Sistemas Inte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sibilidad de utilización de sistemas operativos potentes que ya realizan numerosas t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erramientas de desarrollo software pot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ducción en el precio de los componentes hardware y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Third-Party Firm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yperWRT: Firmware basado en el de fábrica del Link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veaSoft: Versiones Libres y de 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enWRT: Firmware con un sistema de archivos JFFS2 y administración de paqu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D-WRT: Versiones libres y de 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Equipos Chip Broad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sk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lk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ffa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inks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DD-W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rmware Libre bajo los términos de la licencia G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imeras versiones basadas en el firmware Alchemy Sveaso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ersiones Libre y de 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outers 802.11g basados en chip Broadc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Características DD-W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3 idiomas (Español entre ell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802.1x Protocolo de Autentificación Extensible (E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HCP Server/Client/Forw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NS Server/Forw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MZ (Fire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ynamic DNS (DynDNS, EasyDNS, FreeDNS, No-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tspot Portal (Sputnik, Chillispot, Nocat, Wifido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JFF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MC/SD Card Support (requiere modificacion Hard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Kernel v2.4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entury Gothic"/>
              </a:rPr>
              <a:t>Característica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649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rewall y QoS basado en las herramientas iproute2, iptables, tc, ipp2p, layer-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rt Forwar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PNs (PPTP, Openvp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tocolos de conexión a internet (PPPoE, IP estática, PPTP, L2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tocolos de Ruteo RIP, BGP, OSP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rvicio UP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ministración SSH/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ron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verc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villa[404NotFound]</dc:creator>
  <dc:description/>
  <dc:language>en-US</dc:language>
  <cp:lastModifiedBy>Sevilla[404NotFound]</cp:lastModifiedBy>
  <cp:revision>0</cp:revision>
  <dc:subject/>
  <dc:title>El poder de GNU/Linux en menos de 100 US.</dc:title>
</cp:coreProperties>
</file>